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17E-8A2E-4894-A8DE-F6C538E0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6B8-1D13-4FCC-8980-593E4B58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BA2-3F8A-45D9-88B7-44C9B139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3E2-5FAD-43C0-89D8-FA458871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DF9E-4392-4AAD-8B16-FC428644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953A-0374-4FA3-913A-C75CF541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F1F4-4A8D-4648-A9A4-958D5161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E591-9547-434B-B42D-6AA8902B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9A35-E6FC-4666-8F10-8AED23D9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C767-EF76-4F36-8A14-10BB5F5F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0E68-F8F9-485F-81D8-3B21C633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AAA-3601-40ED-A3DC-FFB894CA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AD81-1C28-45BC-A932-AEA8EDC7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ABA2-8D28-4690-BF94-0F550E5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5C40-DC86-4E45-A1AB-8AC0ABF4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3CF9-CD7B-4E57-A793-037C55C9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7DDE-E816-46CB-A735-349172FD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DFC-BBFE-4AAA-A35B-F7EBEC9C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139-B6ED-434B-A676-03644D9A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E95-2F56-4039-9ACB-9B4F9774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59B-CA8A-4CF3-85F3-9C60041F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ED7-5D32-49C4-9696-34190889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2C5-44C2-4131-8897-A8294A5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AA6-B758-4A38-8E8F-4D5775C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3C4F-8A40-4E5B-B829-783A1EEB2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A82E-12BF-4D96-BFD8-C882A9772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47640" y="1587600"/>
            <a:ext cx="6193080" cy="36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Script MT Bold"/>
              </a:rPr>
              <a:t>Arte </a:t>
            </a:r>
            <a:endParaRPr b="0" i="1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33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Script MT Bold"/>
              </a:rPr>
              <a:t>del</a:t>
            </a:r>
            <a:endParaRPr b="0" i="1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33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Script MT Bold"/>
              </a:rPr>
              <a:t>Realismo</a:t>
            </a:r>
            <a:endParaRPr b="0" i="1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33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iana Zurita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Arroyo en Brèm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392640" cy="44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La mujer de la o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0956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El mar tormentos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39272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800"/>
            </a:br>
            <a:br>
              <a:rPr sz="6800"/>
            </a:br>
            <a:r>
              <a:rPr b="1" lang="en-US" sz="6800" spc="-1" strike="noStrike">
                <a:solidFill>
                  <a:srgbClr val="97cdcc"/>
                </a:solidFill>
                <a:latin typeface="Script MT Bold"/>
              </a:rPr>
              <a:t>  </a:t>
            </a:r>
            <a:br>
              <a:rPr sz="6800"/>
            </a:br>
            <a:endParaRPr b="0" lang="en-US" sz="6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411280" y="2637000"/>
            <a:ext cx="4104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Script MT Bold"/>
              </a:rPr>
              <a:t>Courbet</a:t>
            </a:r>
            <a:endParaRPr b="0" i="1" lang="en-US" sz="6600" spc="1" strike="noStrike">
              <a:ln w="9360">
                <a:solidFill>
                  <a:srgbClr val="99cc00"/>
                </a:solidFill>
                <a:miter/>
              </a:ln>
              <a:solidFill>
                <a:srgbClr val="33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3888000" cy="28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76500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66"/>
                </a:solidFill>
                <a:latin typeface="Script MT Bold"/>
              </a:rPr>
              <a:t>Autorretr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Script MT Bold"/>
              </a:rPr>
              <a:t>                 </a:t>
            </a:r>
            <a:r>
              <a:rPr b="0" lang="en-US" sz="2100" spc="-1" strike="noStrike">
                <a:solidFill>
                  <a:srgbClr val="336666"/>
                </a:solidFill>
                <a:latin typeface="Script MT Bold"/>
              </a:rPr>
              <a:t>Los campesinos de Flagey</a:t>
            </a:r>
            <a:br>
              <a:rPr sz="2100"/>
            </a:br>
            <a:r>
              <a:rPr b="0" lang="en-US" sz="2100" spc="-1" strike="noStrike">
                <a:solidFill>
                  <a:srgbClr val="336666"/>
                </a:solidFill>
                <a:latin typeface="Script MT Bold"/>
              </a:rPr>
              <a:t>                      volviendo de la feria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359100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La fuent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3051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Las cribadoras de trig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7628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El taller del pinto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0108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      </a:t>
            </a: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Las bañist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15108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El sueñ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1326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1:51:28Z</dcterms:created>
  <dc:creator>Pc 5</dc:creator>
  <dc:description/>
  <dc:language>en-US</dc:language>
  <cp:lastModifiedBy>Pc 5</cp:lastModifiedBy>
  <dcterms:modified xsi:type="dcterms:W3CDTF">2008-12-18T12:37:43Z</dcterms:modified>
  <cp:revision>2</cp:revision>
  <dc:subject/>
  <dc:title> Realismo …    Courbet</dc:title>
</cp:coreProperties>
</file>